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136-9ACD-4AE5-A141-F871C2C5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871-858C-4CF2-B91D-4140EB5E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89F-C75D-4096-AD22-566323E4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B5F-58E5-4431-B304-80A19BE3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4E88-986F-4B1E-B309-430FDDAA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50A0-8D00-4ADA-A622-273CD22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0C14-409C-48BC-9E07-73A60E42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BA4E-8839-43E5-940D-F71425D9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8CB8-EFB8-405D-8310-C5AB1204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F2FB-E72D-4232-89BC-3B097FCD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0FE8-826F-4AD8-B934-15C74314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4D2-C65B-42EB-9D74-9583D178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E170-AD56-4A16-8FE7-177F834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21C3-2CDE-4EF3-92FA-196019D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0641-885C-48E4-8084-A8B3447D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91D2-0BD2-427C-85C2-51F5CE64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0EB0-F602-442D-938C-E0070763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5A6-B976-4E4A-8C36-DAA7D97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F03-2E4E-4201-94B5-3D9DB62E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90F-8F66-411A-9A7B-00A1F6D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232-494B-4205-B091-CEADC6D9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6DF-5225-451C-A9D2-E2E4503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D51-0E08-438A-A44A-C46E2F2B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6A5-9297-429E-AB4D-9935571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44DE-6A80-4099-836E-34A7BA5D65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E901-9363-4B93-8F54-B814C09412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nstantia"/>
              </a:rPr>
              <a:t>Noble Ga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Taylor and Jennif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ble G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ium (H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on (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on (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ypton (K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enon (X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on (R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ence Electr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ium-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on-8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on-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ypton-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enon-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on-32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e of the elements in the noble g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up are reactive because the val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n shells are full. Also, all of the nob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ses are nonmetals and are found in t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rth’s atmosphere. The noble gases 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nd on the far east side of the period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cts and Examp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ium is used to fill ballo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on is used to make up neon ligh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quid helium is used to make superconducting magne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esting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oble Gases are called noble because they don’t react with other chemic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arth’s atmosphere is 0.93% arg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heaviest of all noble gases is arg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oble Gases do not easily form compoun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0:13:19Z</dcterms:created>
  <dc:creator>tatumadmin</dc:creator>
  <dc:description/>
  <dc:language>en-US</dc:language>
  <cp:lastModifiedBy>tatumadmin</cp:lastModifiedBy>
  <dcterms:modified xsi:type="dcterms:W3CDTF">2009-12-04T20:08:53Z</dcterms:modified>
  <cp:revision>3</cp:revision>
  <dc:subject/>
  <dc:title>Noble Gases</dc:title>
</cp:coreProperties>
</file>